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E6BD-69DD-4864-8B0D-CD6DC1B2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F42-95FD-48B4-9119-6799689A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98AF5-4739-46D2-A6E7-C76D1C10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F604D3-C887-49B3-A4FC-26A56189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EFB9E-94F7-4136-A0DD-CE6939F84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CB03E-F6AD-4B59-B824-51A9DAC0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4CDD2-75D9-437E-A0A7-296FB355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E9BB6-3509-432B-A6CC-1F19E7CD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4887F-CDDD-4394-8AA9-BB5D5909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32D05-1478-4171-A4DB-FB52B78D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3B9DC-A266-473C-AE02-CAEF2CD5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CFB32-84AC-4344-BE76-F2F7ED34F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E19-CA9E-4A05-8561-F9BD1A4E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F231-EB23-499E-8301-06F84A9A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70CE2D-753B-4C73-BEF0-031CBB67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46C49-DFF4-4A79-9717-EAC05E8D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EB3EF-CCF8-44CE-B146-53C03DD1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3D8DA-74D5-4AA7-A4BC-3A1C81B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4139B-B57B-431F-8FB5-2AAB202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9764B-7C4B-47E9-9EB0-6B9B5F5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8316B-029C-4383-96E1-F785BCBF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1CA8B-2813-4BAF-B37B-BE01EEDA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1FD8A-D2C2-475E-B03C-F1ACCDEF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B5B-3E05-4E2B-A26F-9F46AEA7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1F2C9-AC60-4C92-88ED-24462FC17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8160D-8255-478E-AE4E-9826EC91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CFDB5-6C98-4756-AFC4-127A5E4E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2B77B-A27A-46F4-8910-B15550D8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5FF05-6AEF-44BD-82EA-28F18659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9FB57B-504B-4A8D-94A4-B48EA636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F5AC4-22B2-4954-A3DC-7AA965BF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B02498-7811-4126-986C-702CF603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15AC45-D49E-4813-B0FE-15201AF7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43B10-C9DA-4CD9-9469-39F0320C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9D9C-0697-4BB1-92AE-72EA76D3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68EC7-9817-4E28-9203-B8C57BDE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21947-AA71-47DE-8490-724DBFCD7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95105-5DE2-4526-8035-782FB8D4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4E5926-3A6D-4CBF-BC12-199E5A6A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8F6C1-ECB2-4CCB-8076-DC74EAF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110DD4-0E1C-4C27-AC24-CD2A0E3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BC884-CDFD-4E35-8DE5-01B14E038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F4EA37-5A73-4ED4-8AD0-1128D546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FBD67-7414-4E82-866A-51BE361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8EA73-DBA8-4A38-BFBF-88E23400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34D7-895D-4C97-BD22-4AD2AE1A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8F247-1A85-46E5-9B38-826B3AAB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3527B-DE5A-4C43-94DA-F5E7B474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88551-5333-440C-8132-FD08F87D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8B1E0-3ADF-4FF0-9F36-514F5695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B7EF9-1951-4220-ACBD-8B3DFB6B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15B48-7C99-4FD3-AC37-8F91B62A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42B72D-E231-4E01-B094-1BA079A1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DB2A5-035B-48FF-9B14-80B498BA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F1602-3B84-4918-9E3F-7AC43ECC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061C15-9DD3-44BE-9A20-B70AFA73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F55C-D72A-4435-9C43-48BAD54D3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F9ED1-DB98-4213-B383-49E984E4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0E9BD-619A-44CB-9170-6CEE748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BB512-6BFE-4677-9274-D6C43788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E316A-A6F6-4778-8E4B-EC1BAC9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E9FA3-8DF3-4C13-851E-14AD211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5D31A-7DED-445F-B5A4-7CB63861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613AEF-2B4C-42BA-A4A6-808998D4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FFA3A5-47E8-406F-80BC-96F9E58D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085CE-7C40-401E-B239-F281457A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845042-5B2E-47E8-B868-CF64E223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0F2B-0932-4323-A94B-E3FF7630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883EC-5C2F-4340-87B7-35F368B1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D4EE49-1427-4ACD-A9EA-035C57BF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4FC88-B9D3-4FF5-AABB-21DF18B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36633B-8F2D-4715-B02E-FA5A9488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F8168-85FF-4AA1-9794-B7BA5DFB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1A2957-CE98-4FB2-A183-3736D9BA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9A7A2-D03F-4C46-BF26-1CD68A5D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B41CF-F9D2-41E6-A57E-23A5B163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15590-9451-429F-91D2-29B5E2A9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BF1C0-A59A-4DBF-BC3C-E565BC04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BCCC-A0AE-41D6-BE8C-5DD99585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02F54-C890-482B-A6A5-ED25D101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AB194B-6D0E-4AF9-A0DA-0D37C5AD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ABD52E-7D3E-4B41-836B-ACA448FBA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DF8E3-8C65-4C70-A1E6-8654AF0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7991F-C292-454A-833C-A42A5663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4DB95-9DD0-44C0-93AB-AC44B963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5D1381-26E8-4E6A-AB8B-D8773B60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FF58F9-6B00-4937-B7FE-B602086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8BDD90-BBFC-42D8-9363-E16709A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3610AB-3F77-4F3B-9AC7-F8BE4AF7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5FF2-CD01-4E82-B77F-4F200925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A8C14C-C43E-4882-8F6E-347ADA54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EFFD5A-F8A6-4431-A641-72D3C0E98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8F24E-F0D6-43D2-9979-550F04B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AFD78-7602-4568-8887-31C0A043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34BC32-C1A9-49D3-A26E-BDFD5D7E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CAF68D-3BF2-44E4-920E-1F29DA0B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E215-88C7-4134-99A1-90BF542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8E007-09F6-4BB7-862E-B9118C01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C8A3B0-79CB-4D24-B37B-B5D732BA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3566E-83F4-4C1F-987E-2728B2EA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6DE5-96E7-40CD-B48B-5BFB967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4A2EBA-F9D0-469A-8FAE-289A4538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801BD-5D94-4832-8D4B-B4E1D11B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3D6FCB-FDFE-4EA6-B599-386847DC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EFDE91-9F89-42A6-A833-6CCF3799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1536D6-9E03-4B6A-9250-0998BF0F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6FD4C-C6F7-4BCD-97AE-ED1B23E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24C9F2-FC12-41B3-A4CA-4F4A24AC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24CCB-5FC2-40A2-8561-5992DF0C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45600-BF82-4423-9164-9CF01A60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21434-4AD7-47F2-A749-F9048463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EF1-9478-4338-9872-E0D8C2A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1559-A363-4FB6-9D5E-C92227D1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224B21-AB05-4698-A665-168D1B32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BD083-2FD3-4E74-842B-628C043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AAAC7C-986C-461A-9E3B-F4433CF9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0637A-FB27-4402-9A00-EA5372CF2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1D0953-03FB-4F24-80B8-4E73C407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320D-8E11-4C3D-B05D-699271C0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8289-2C1D-4CDB-A9F1-FFD3C61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9180-847B-4B58-BE1B-58A660CF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3289-01EA-4920-B608-6C0689CD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AE0A-1203-4DC5-964E-2DF29A56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83A7-6993-4520-9CBE-BDCA88DC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9DCD2-B60D-415F-9E39-2894DD84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EBB9-FB86-43CE-A652-7F018FC2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06A3-C1EC-4A99-B472-865C8606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6B95-4E31-4543-B9A1-289F760E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1EFD-7956-4CD8-9A61-67E96C0B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35564-AD4D-4434-A81B-19228587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408D6-AC3A-48BC-9F57-7CEA2C6E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9C816-191C-4C74-A5A0-81D444F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2184A-4863-4674-B8CB-92B1B5EC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A3517-C008-4DC2-A03F-A331DC14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65222-FD4E-4B8D-9EE0-1A975D5F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3DAD-0C33-466C-ACF7-E4C9B61F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4D19C-1D49-4012-BE2C-22D6AF5E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2251D-5DF9-438A-92DA-1B4D8B3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E0C-1641-44F8-99D3-D2C13848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D8005-3449-49C5-A649-E453DB78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1CF1-9665-4BD3-A8AF-C91CBD97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820B9-5B7C-46B1-AC93-091F2C8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5FBE-CD99-4928-8A30-57810D34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BB7B9-BC45-4524-962E-0669E9EB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71282-EBB9-4CF1-AA26-5C21B871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5D703-5949-4E5A-B399-1A637A0A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27811-4578-42A3-97F7-4E66052CD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8BC8C-6589-4B1E-BFAA-6AFE5A8AF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267EA-3EA5-47F8-9A10-51161AA4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3D0B-702F-4918-A8AE-52B53DBA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E9802-613D-4423-A130-988A141A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127FF-0B73-47BD-917C-6C7C42B2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8BCA-D127-4EC4-919C-2E2DBB1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A5EE-A576-4AB0-8700-0E181A2F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C6A7-3F37-444F-971B-798C1575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DD29F-11B5-4F97-8100-4075EE7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9CB09-15A4-40F1-8FE0-8DB96C89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8764-22ED-45C5-8650-97684191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5D45C-A5E4-4E8A-8C57-9A91E0CE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04A3A-1E59-4923-AB00-D8B2E1F4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FEE-D0DE-4710-AD25-23DCB05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6C330-2490-4185-83E4-EA147C6E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8A07-D92E-4E6C-9629-3DA13E3B7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9FEF3-81E6-4055-ACEC-DA23CAB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83D36-0A31-441B-8BE2-6730A1DA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47AE0-E4E8-468E-8718-1521FE0E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2D03-9EE5-4027-AA3E-9B67A14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54F31-BA14-4E55-B9B4-F2D6465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FE13B-DFB0-4B59-BA9A-6BC07E70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1EB93-AC7B-444F-B314-9167F413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7E1DC-ECE6-4056-B533-A4FBB969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7A2-5212-454C-8C58-C3FFFE13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A6EE-E4EC-4739-BAD2-32D989E0C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8C3D-7FDE-42A0-910F-D83535D51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59EF-8F44-4DDA-9E7D-16167D0B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BE92-DC20-4339-AE49-65790566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C5ADA-0DB5-4769-9955-7CBB46C3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4A621-5B5D-4B31-95A7-401A317D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CD421-EDB8-4B9D-823B-9F9252A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CF620-E444-4E9E-9A22-81E0428D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B0D2E-EA60-433A-A0DD-44EE0557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0222B-BA5F-4143-A6C6-2BA974BF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E37-F500-4398-AC26-AC41AA74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406E-147F-4622-9199-35D200F0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F920-7D16-47F0-A4D5-47087396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C8163-1BA7-4E9C-AD67-AB1A1630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9B9B7-B055-497D-9EBE-2BAE58DB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0299-3AA9-4C58-9E9F-35FFE3E4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9E6A1-1EB9-431C-AAA4-FE0B32CB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82882-5247-4FA8-A68B-11D64E4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E332-C0F3-49B0-B007-A3106B0D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455C6-7DFF-4014-8AFF-A1105FE4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517A5-9EAD-48A2-A9A5-8E94F971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501-93FB-42A1-9369-EA19F32F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EB472-954C-44CA-B103-FB9ECBB5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24C8-EAEF-4DDE-AE2D-198CB563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2BF33-D9AA-470C-88FE-5E83F4C6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6D00F-A499-46E1-BD62-1C78200A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D8D61-6E80-4710-89CE-7F7AE3AC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DAD0D-3094-48CE-9532-713D48EF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13238-F3B2-4854-9998-03B3FC0B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D4C84-60CC-4809-95B7-7AA628F6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26C5E-C6B4-43D8-9459-546FA9BF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B7C8F-E851-4164-B419-1918344F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8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C81-D5AD-4DC5-9AA9-2BF95E7561CD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DFB-C2CD-40A9-80CA-2B09EF03B765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3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44" name="16 Forma libre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5" name="18 Forma libre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6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447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49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6326-4F4F-47A7-B804-0953002D724A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3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94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96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97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F1FC-3BE2-4668-AA9A-67A5058C88FB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43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5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C1DD-3A02-4985-A9D0-FB92EFB1EFD5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4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4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4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D764-2B26-41A3-9DDF-B159FA22F7DD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0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631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33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FC34-4F7B-4736-BBE6-71ECB5534976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 type="dt" idx="4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 type="ftr" idx="4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 type="sldNum" idx="4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B667-66DA-4A91-8368-7C3885983E7A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10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15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8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719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21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722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5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5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A1E-0605-46A5-B7F1-0BBFE3B3E2CE}" type="slidenum">
              <a:rPr b="0" lang="es-A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4531-6D92-4949-8747-938B755041CC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11B6-D9C5-4F24-A131-0544CAEBB7A9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3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567B-3A26-4EEF-BC2D-4F9FD52ED262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275C-CC2F-402E-BF8E-928A7EF4FC68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C935-2E51-4BD8-94E7-ECE75E5BF5F1}" type="slidenum">
              <a:rPr b="0" lang="es-A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E01-5365-4F05-938C-71C3CFF20798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6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12 Forma libre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11 Forma libre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08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0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EF5-8EBD-4D67-B906-07411EBDAFA5}" type="slidenum">
              <a:rPr b="0" lang="es-A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A268-8491-4E59-9FB6-CB771938C64D}" type="slidenum">
              <a:rPr b="0" lang="es-A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1 Título" descr=""/>
          <p:cNvPicPr/>
          <p:nvPr/>
        </p:nvPicPr>
        <p:blipFill>
          <a:blip r:embed="rId1"/>
          <a:stretch/>
        </p:blipFill>
        <p:spPr>
          <a:xfrm>
            <a:off x="1279440" y="1116000"/>
            <a:ext cx="6499440" cy="1481040"/>
          </a:xfrm>
          <a:prstGeom prst="rect">
            <a:avLst/>
          </a:prstGeom>
          <a:ln w="0">
            <a:noFill/>
          </a:ln>
        </p:spPr>
      </p:pic>
      <p:pic>
        <p:nvPicPr>
          <p:cNvPr id="766" name="2 Subtítulo" descr=""/>
          <p:cNvPicPr/>
          <p:nvPr/>
        </p:nvPicPr>
        <p:blipFill>
          <a:blip r:embed="rId2"/>
          <a:stretch/>
        </p:blipFill>
        <p:spPr>
          <a:xfrm>
            <a:off x="298440" y="3103560"/>
            <a:ext cx="8352000" cy="3121200"/>
          </a:xfrm>
          <a:prstGeom prst="rect">
            <a:avLst/>
          </a:prstGeom>
          <a:ln w="0">
            <a:noFill/>
          </a:ln>
        </p:spPr>
      </p:pic>
      <p:pic>
        <p:nvPicPr>
          <p:cNvPr id="767" name="3 Imagen" descr="Escudo de Mendoza.GIF"/>
          <p:cNvPicPr/>
          <p:nvPr/>
        </p:nvPicPr>
        <p:blipFill>
          <a:blip r:embed="rId3"/>
          <a:stretch/>
        </p:blipFill>
        <p:spPr>
          <a:xfrm>
            <a:off x="4084560" y="642960"/>
            <a:ext cx="881280" cy="880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Lucida Sans Unicode"/>
              </a:rPr>
              <a:t>Esta situación plantea la necesidad de pensar la institucionalidad del nivel superio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Lucida Sans Unicode"/>
              </a:rPr>
              <a:t>Revisar las funciones sustantivas y fortalecer la Institución antes que incorporar nuevas funcion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000000"/>
                </a:solidFill>
                <a:latin typeface="Lucida Sans Unicode"/>
              </a:rPr>
              <a:t>Presentación de la política de la DES: Acompañar los procesos de reflexión institucional para generar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Articulación entre las funcion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Coordinación entre los actor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000000"/>
                </a:solidFill>
                <a:latin typeface="Lucida Sans Unicode"/>
              </a:rPr>
              <a:t>Fortalecimiento de la identidad Instituciona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87" name="2 Título" descr=""/>
          <p:cNvPicPr/>
          <p:nvPr/>
        </p:nvPicPr>
        <p:blipFill>
          <a:blip r:embed="rId1"/>
          <a:stretch/>
        </p:blipFill>
        <p:spPr>
          <a:xfrm>
            <a:off x="328680" y="182520"/>
            <a:ext cx="836460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3 Marcador de contenido" descr=""/>
          <p:cNvPicPr/>
          <p:nvPr/>
        </p:nvPicPr>
        <p:blipFill>
          <a:blip r:embed="rId1"/>
          <a:stretch/>
        </p:blipFill>
        <p:spPr>
          <a:xfrm>
            <a:off x="566640" y="1420920"/>
            <a:ext cx="8242560" cy="4541760"/>
          </a:xfrm>
          <a:prstGeom prst="rect">
            <a:avLst/>
          </a:prstGeom>
          <a:ln w="0">
            <a:noFill/>
          </a:ln>
        </p:spPr>
      </p:pic>
      <p:pic>
        <p:nvPicPr>
          <p:cNvPr id="789" name="2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791" name="5 Marcador de contenido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5 Redondear rectángulo de esquina diagonal"/>
          <p:cNvSpPr/>
          <p:nvPr/>
        </p:nvSpPr>
        <p:spPr>
          <a:xfrm>
            <a:off x="1143000" y="1714680"/>
            <a:ext cx="7215120" cy="3643200"/>
          </a:xfrm>
          <a:prstGeom prst="pie">
            <a:avLst/>
          </a:prstGeom>
          <a:solidFill>
            <a:srgbClr val="2da2bf">
              <a:alpha val="47000"/>
            </a:srgbClr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3 Marcador de contenido" descr=""/>
          <p:cNvPicPr/>
          <p:nvPr/>
        </p:nvPicPr>
        <p:blipFill>
          <a:blip r:embed="rId1"/>
          <a:stretch/>
        </p:blipFill>
        <p:spPr>
          <a:xfrm>
            <a:off x="1494000" y="1852560"/>
            <a:ext cx="6583320" cy="3286080"/>
          </a:xfrm>
          <a:prstGeom prst="rect">
            <a:avLst/>
          </a:prstGeom>
          <a:ln w="0">
            <a:noFill/>
          </a:ln>
        </p:spPr>
      </p:pic>
      <p:pic>
        <p:nvPicPr>
          <p:cNvPr id="794" name="2 Título" descr=""/>
          <p:cNvPicPr/>
          <p:nvPr/>
        </p:nvPicPr>
        <p:blipFill>
          <a:blip r:embed="rId2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795" name="6 Anillo"/>
          <p:cNvSpPr/>
          <p:nvPr/>
        </p:nvSpPr>
        <p:spPr>
          <a:xfrm>
            <a:off x="4572000" y="3357720"/>
            <a:ext cx="428760" cy="428400"/>
          </a:xfrm>
          <a:prstGeom prst="pie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path" presetID="3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7 0.037 0.06527 0.055 0.07859 C 0.082 0.09991 0.108 0.1079 0.113 0.09724 C 0.117 0.08659 0.099 0.05994 0.072 0.03863 C 0.054 0.02531 0.021 0.01599 -0.008 0.01465 C -0.036 0.01599 -0.07 0.02531 -0.088 0.03863 C -0.115 0.05994 -0.133 0.08659 -0.128 0.09724 C -0.123 0.1079 -0.097 0.09991 -0.071 0.07859 C -0.053 0.06527 -0.03 0.03197 -0.016 0 C -0.001 -0.0333 0.009 -0.07726 0.009 -0.10524 C 0.009 -0.14786 0.002 -0.18117 -0.008 -0.18117 C -0.017 -0.18117 -0.025 -0.14786 -0.025 -0.10524 C -0.025 -0.07726 -0.014 -0.0333 0 0 Z">
                                      <p:cBhvr>
                                        <p:cTn id="527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Presentación del Equipo y de la Jor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Síntesis presentada por los Jefes de IF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Aportes del Equipo de la 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Evaluación y acuerdos programátic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700" spc="-1" strike="noStrike">
                <a:solidFill>
                  <a:srgbClr val="000000"/>
                </a:solidFill>
                <a:latin typeface="Lucida Sans Unicode"/>
              </a:rPr>
              <a:t>Consultas sobre Programas y Proyecto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69" name="2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6579-3676-4725-B234-4102BC73E533}" type="slidenum">
              <a:rPr b="0" lang="es-ES_trad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Conformación de los Consejos Regionales de Rectores para consensuar políticas y modos de implementación de las mismas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Revisión de Normativas vigentes relacionadas con la Formación Docente de Nivel Superior, con el fin de adecuarlas a las Políticas Nacionales y Jurisdiccionales en curso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3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Re-direccionalización de las funciones de Investigación y Extensión en relación con políticas de diagnóstico y de innovación y de mejora del sistema educativo en sus distintos niveles.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5 Marcador de número de diapositiva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B195-04AC-40EF-8377-B4F9E0D0FEE8}" type="slidenum">
              <a:rPr b="0" lang="es-ES_trad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71680" y="13568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Fortalecimiento de mecanismos para la conformación de </a:t>
            </a:r>
            <a:r>
              <a:rPr b="1" lang="es-ES" sz="1900" spc="-1" strike="noStrike">
                <a:solidFill>
                  <a:srgbClr val="000000"/>
                </a:solidFill>
                <a:latin typeface="Lucida Sans Unicode"/>
              </a:rPr>
              <a:t>Redes Interinstitucionales </a:t>
            </a: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y la socialización de experiencias y resultados</a:t>
            </a:r>
            <a:r>
              <a:rPr b="1" lang="es-ES" sz="19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Optimización de un Sistema de Información propio de la Educación Superior a Nivel Jurisdiccional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Diseño de un sitio específico de Educación Superior en el Portal Educativo de la Dirección General de Escuelas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Lucida Sans Unicode"/>
              </a:rPr>
              <a:t>Reforma de planes de estudio de profesorados de nivel inicial, primario, educación especial, artística y educación física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Lucida Sans Unicode"/>
              </a:rPr>
              <a:t>Acuerdos interinstitucionales para mejorar la gestión curricular de las carreras en curso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5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Lucida Sans Unicode"/>
              </a:rPr>
              <a:t>Avances Institucionales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Manejo Autónomo – Autonomía Consejo Directivo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Fortalecimiento de órganos de gobierno y de gestión académic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Creación de Consejo de Rector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Ajuste de los planes según las normas vigentes luego y como efecto de las evaluaciones curriculare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Plan de Desarrollo en Mendoz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Lucida Sans Unicode"/>
              </a:rPr>
              <a:t>Avances en la Relación Institución – Medio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Articulación con escuelas sede, y universidad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Articulación con las universidades (licenciaturas y posgrados)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Inserción laboral óptim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900" spc="-1" strike="noStrike">
                <a:solidFill>
                  <a:srgbClr val="000000"/>
                </a:solidFill>
                <a:latin typeface="Lucida Sans Unicode"/>
              </a:rPr>
              <a:t>Avances en la visibilidad de los Institutos en la Política Educativa Nacional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Participación de proyectos y financiamiento de orden nac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Lucida Sans Unicode"/>
              </a:rPr>
              <a:t>Creación del INFOD e inclusión de los IFD en las políticas educativa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7" name="2 Título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457200" y="1213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Lucida Sans Unicode"/>
              </a:rPr>
              <a:t>Financiamiento Infraestructura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Infraestructura insuficient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Lucida Sans Unicode"/>
              </a:rPr>
              <a:t>Financiamiento de los Institutos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Montos desactualizados de Fondos fijos, abonos bec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Reconocimiento de zona para IES alejad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Poco financiamiento para la Institu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Carencia de recursos humano-financier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Lucida Sans Unicode"/>
              </a:rPr>
              <a:t>Personal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Recursos Humanos insuficient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Sueldo de los equipos directiv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Carencia de recursos humano-financier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700" spc="-1" strike="noStrike">
                <a:solidFill>
                  <a:srgbClr val="000000"/>
                </a:solidFill>
                <a:latin typeface="Lucida Sans Unicode"/>
              </a:rPr>
              <a:t>Aspectos normativos y legales: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Normativa sobre incompatibilidad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Titulariz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Los públicos piden estabilidad docente, titulariz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Normativa escaza o nula para la titularización para acceso a cargos jerárquic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No participación de la DES en la Junta Calificadora sobre tema de incumbencia de títul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Ausencia de procesos para formar consensos previamente a emisión de las norm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79" name="2 Título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7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7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7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7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7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7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7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7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7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7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7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7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7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7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7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7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42876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Lucida Sans Unicode"/>
              </a:rPr>
              <a:t>Aspectos organizativos: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Desfasaje entre la implementación de proyectos en el plano pedagógico y el financiero contable (rendición, facturación, demora en los depósito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Desigualdad de oportunidad para acceder a program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Ausencia de procesos para formar consensos previamente a emisión de las norm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Cierta discontinuidad de las políticas educativas (por ejemplo: programa de desarrollo profesional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Detección de problemas en la implementación de los proyectos y  programa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Los logros y dificultades dependen del grado de desarrollo institucional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Carreras a término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Lucida Sans Unicode"/>
              </a:rPr>
              <a:t>Necesidades y deseos expresados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Se solicita continuidad de políticas y acciones, más eficiencia que antes y más claridad en la implementació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Que la DES y la DEP se complementen (acciones, normativas, decisiones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Los  IFD privados piden que se homologuen con normativas o implementación laboralmente posibl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Tener un lugar en el sistema educativo provincial de Mendoza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Pensar los Institutos como integrantes de un Sistema, solidarios y no competitiv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Lucida Sans Unicode"/>
              </a:rPr>
              <a:t>Necesidad de sentirse acompañado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81" name="2 Título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7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7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7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7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Con la experiencia del PTFD se generó  una serie de normas, acuerdos, mecanismos, etc., que previeron la institucionalización de las funciones sustantivas de los IFD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Aparecen en la escena institucional las funcion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Formación Inici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Investigación, Promoción y Desarroll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Lucida Sans Unicode"/>
              </a:rPr>
              <a:t>Capacitación, Actualización y Perfeccionamiento Docent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300" spc="-1" strike="noStrike">
                <a:solidFill>
                  <a:srgbClr val="000000"/>
                </a:solidFill>
                <a:latin typeface="Lucida Sans Unicode"/>
              </a:rPr>
              <a:t>La revisión del desarrollo de las funciones muestra que, en los hechos, en los IFD se dedica una gran cantidad de horas a FI, mientras que las funciones de Investigación y la Capacitación aparecen de una manera más difusa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83" name="2 Título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-360" y="135720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Formación inicial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Acompañamiento de los primeros desempeños docent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Formación pedagógica de agentes sin título docente, y de profesionales de otras disciplinas que pretenden ingresar a la docencia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Formación para el desempeño de distintas funciones en el sistema educativo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Preparación para el desempeño de cargos directivos y de supervisión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Actualización disciplinar y pedagógica de docentes en ejercicio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Asesoramiento pedagógico a las escuela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Formación (de docentes y no docentes) para el desarrollo de actividades educativas en instituciones no escolares (instituciones penales de menores, centros recreativos, centros culturales, etc.)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Investigación de temáticas vinculadas con la enseñanza, el trabajo docente y la formación docente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900" spc="-1" strike="noStrike">
                <a:solidFill>
                  <a:srgbClr val="000000"/>
                </a:solidFill>
                <a:latin typeface="Lucida Sans Unicode"/>
              </a:rPr>
              <a:t>Desarrollo de materiales didácticos para la enseñanza en las escuela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785" name="2 Título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01:51:27Z</dcterms:created>
  <dc:creator>Maria Perez</dc:creator>
  <dc:description/>
  <dc:language>en-US</dc:language>
  <cp:lastModifiedBy>Maria Perez</cp:lastModifiedBy>
  <dcterms:modified xsi:type="dcterms:W3CDTF">2008-08-11T22:47:45Z</dcterms:modified>
  <cp:revision>42</cp:revision>
  <dc:subject/>
  <dc:title>Gobierno de Mendoza Dirección General de Escuelas DIRECCIÓN DE EDUCACIÓN SUPERIOR</dc:title>
</cp:coreProperties>
</file>